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D650-4B72-44E9-907E-B16A81FA559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3B12-8010-4A14-92BD-2BE80E63FD4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55F1-7ADE-4C0A-B40E-43EADC079C1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혹시 수컷이 더 일반적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형적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본적인 형태라는 편견 때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5685-A7A9-4459-A72B-1695D080D14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71A8-8FEC-4B91-8310-1D3C6D5AE27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혹시 남성과 여성에 대한 전형적인 이미지 때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리고 주로 남자들이 연구했기 때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번 감춰지자 연구자들 그 존재 모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안을 모른 상태에선 수정에 대한 관찰 보고가 기존 가설의 입증 증거로 보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더 상세한 연구 불필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안이 등장하자 이론 미결정 상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지금까지의 관찰 증거로는 결판 안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더 상세한 연구 필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6C2A-D0FB-458E-8489-155FCD925CE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관찰의 이론적재성 때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주의 깊게 관찰한 대상이 달랐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연구 방법이 다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9C8E-149A-4D2B-ADA5-8BAD051ED2A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04C2-3FA0-412E-B8F0-6CC7DF17082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뇌용량 증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렵 또는 채집을 위한 통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협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위해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도구 사용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렵 위한 돌 도구 사용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vs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채집 위한 나무 도구 사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&g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돌 도구 사용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&g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렵에 사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직립 보행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도구 사용 또는 채집이 직립 보행에 대한 선택압 높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채집 여성 이론은 수렵 남성 이론에 대항하여 그와 똑같이 잘 설명하는 대안 이론의 가능성을 보여줌으로써 수렵 남성 이론의 설명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혹은 당연하게 참이라 간주될 위험을 없애기 위한 목적으로 고안된 이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8593-5F77-421A-9426-9CC5628A3F6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1A61-BD03-417E-9C55-09FF03269D9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34B3-D77C-49B2-A614-C3AD88FC43B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우리가 증거에 의해 입증된 이론처럼 간주하는 모든 이론이 사실은 특정한 가치에 의해 편향된 이론일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88A5-2543-4976-924C-A46483CC8F7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젠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회적으로 규정된 성역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193F-EA39-40BC-A1DB-8570FD77D50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8206-F1A1-48CA-8870-2726406C05A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AE83-15D3-4944-9AF9-7BA89FB6082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FBF7-8A40-440B-9378-3A2401267A2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8E8D-D914-483F-9D41-B8FD7AE7B60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0F1B-4641-4939-AAB7-A62C35060E5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E954-EA2A-4941-966E-3B1E61685C5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5822-42E8-4EC3-AD8A-31BECF5C858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3DDE-2622-47AB-A5BC-7454DC3AB87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리학만 유독 그런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또는 모든 직업에서 나타나는 경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여성이 물리학에 적합하지 않다는 편견 때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여성이 능력이 부족하다는 편견 때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닐 수도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것만으로는 증거 불충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DBB0-CD87-41EB-BF71-BE54A127C28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F81D-CFD9-4083-8791-C5509FC1BE9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혹시 피임은 여성의 책임이라는 편견 때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남성용 피임이 어려워서일수도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18E2-2454-46FB-8EDC-AB5BAD11C54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C2E5-D49D-469C-9E40-6E740680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BB71-0944-4A19-A8E0-4CD9D3FB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7F02-D370-4FA5-B231-CF52BEB7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0AA2-A1D9-4A75-9392-F233B1EE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CC4-7DB9-4D49-A8D4-27DD21D0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EB1B-342D-404E-9900-D4BB2D9C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71C8-08F9-4A59-A30F-9F2C99F6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9CEB-45D8-4F5D-8041-5C74AD7F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F02F-6E5C-4405-932D-6AB03BC6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677F-36D3-4756-8849-4C7A5B93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16C6-265F-4139-BE24-07782A06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04F6-E0C6-4B69-A2FA-67570617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c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4F3A-2267-4514-92CF-DBB49FC12662}" type="slidenum"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과학은 남성중심적인가</a:t>
            </a:r>
            <a:r>
              <a:rPr b="1" lang="en-US" sz="4400" spc="-1" strike="noStrike">
                <a:solidFill>
                  <a:srgbClr val="ffc000"/>
                </a:solidFill>
                <a:latin typeface="Trebuchet MS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3.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성 편견이 과학의 연구 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방법을 결정할까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2160" y="4797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왜 암컷 쥐는 실험에 사용되지 않을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52768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4.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성 편견이 과학적 믿음의 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내용을 결정할까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수정은 어떻게 이루어지는가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328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왕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잠자는 미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모델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대안 모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능동적 여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모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1895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980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년대까지 거의 무시됨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71360" y="1484280"/>
            <a:ext cx="43401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영장류학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남성 영장류학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남성이 영장류 사회 지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최근 여성 영장류학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여성의 사회적 역할 부각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왜 서로 다른 입장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7641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인간 진화 이론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515772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c000"/>
                </a:solidFill>
                <a:latin typeface="Georgia"/>
              </a:rPr>
              <a:t>수렵 남성 이론</a:t>
            </a:r>
            <a:r>
              <a:rPr b="0" lang="en-US" sz="2500" spc="-1" strike="noStrike">
                <a:solidFill>
                  <a:srgbClr val="ffc000"/>
                </a:solidFill>
                <a:latin typeface="Georgia"/>
              </a:rPr>
              <a:t>(1960</a:t>
            </a:r>
            <a:r>
              <a:rPr b="0" lang="ko-KR" sz="2500" spc="-1" strike="noStrike">
                <a:solidFill>
                  <a:srgbClr val="ffc000"/>
                </a:solidFill>
                <a:latin typeface="Georgia"/>
              </a:rPr>
              <a:t>년대</a:t>
            </a:r>
            <a:r>
              <a:rPr b="0" lang="en-US" sz="25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5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500" spc="-1" strike="noStrike">
                <a:solidFill>
                  <a:srgbClr val="ffc000"/>
                </a:solidFill>
                <a:latin typeface="Georgia"/>
              </a:rPr>
              <a:t>vs. </a:t>
            </a:r>
            <a:r>
              <a:rPr b="0" lang="ko-KR" sz="2500" spc="-1" strike="noStrike">
                <a:solidFill>
                  <a:srgbClr val="ffc000"/>
                </a:solidFill>
                <a:latin typeface="Georgia"/>
              </a:rPr>
              <a:t>채집 여성 이론</a:t>
            </a:r>
            <a:r>
              <a:rPr b="0" lang="en-US" sz="2500" spc="-1" strike="noStrike">
                <a:solidFill>
                  <a:srgbClr val="ffc000"/>
                </a:solidFill>
                <a:latin typeface="Georgia"/>
              </a:rPr>
              <a:t>(1970</a:t>
            </a:r>
            <a:r>
              <a:rPr b="0" lang="ko-KR" sz="2500" spc="-1" strike="noStrike">
                <a:solidFill>
                  <a:srgbClr val="ffc000"/>
                </a:solidFill>
                <a:latin typeface="Georgia"/>
              </a:rPr>
              <a:t>년대</a:t>
            </a:r>
            <a:r>
              <a:rPr b="0" lang="en-US" sz="25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5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52280" y="1557360"/>
            <a:ext cx="4040280" cy="3589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4419720" y="1557360"/>
            <a:ext cx="4724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두 이론 모두 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뇌 용량 증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도구 사용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직립 보행 설명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이 사례들이 과학의 객관성 훼손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자 사회가 남성중심적인 편견을 가지고 있다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들이 수용한 이론은 세계가 작동하는 방식이 아닌 자신들의 편견에 의해 결정된 것일 수 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주의할 점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여성적 대안 가설이 참이라는 뜻 아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남성들이 고의로 꾸며냈다는 뜻 아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남성적인 과학자사회 내의 암묵적인 편견들이 소위 </a:t>
            </a:r>
            <a:r>
              <a:rPr b="1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객관적</a:t>
            </a:r>
            <a:r>
              <a:rPr b="1" lang="en-US" sz="2600" spc="-1" strike="noStrike">
                <a:solidFill>
                  <a:srgbClr val="ffc000"/>
                </a:solidFill>
                <a:latin typeface="Georgia"/>
              </a:rPr>
              <a:t>’ </a:t>
            </a:r>
            <a:r>
              <a:rPr b="1" lang="ko-KR" sz="2600" spc="-1" strike="noStrike">
                <a:solidFill>
                  <a:srgbClr val="ffc000"/>
                </a:solidFill>
                <a:latin typeface="Georgia"/>
              </a:rPr>
              <a:t>과학적 지식 뒤에 숨어있을 수 있다는 뜻임</a:t>
            </a:r>
            <a:r>
              <a:rPr b="1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대안 가설의 중요성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대안 가설의 존재를 모른 상태에서는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존 가설이 입증된 이론처럼 간주되기 쉽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성 편견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gender bias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gender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따른 편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편향성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거꾸로 말하자면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,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2160" y="3933720"/>
            <a:ext cx="77724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입증된 이론으로 간주되는 이론들이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특정한 편향에 오염된 이론일 수 있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대안 가설을 떠올리지 못해서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입증된 이론으로 착각한 것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‘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객관적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’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과학을 위해서는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주의 깊게 편견을 버리고 가설을 세워야 한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No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‘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객관적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’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과학을 위해서는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2160" y="393372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오히려 편견의 존재 가능성을 인정해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br>
              <a:rPr sz="2600"/>
            </a:b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새로운 편견에 기초한 가설이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과학의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객관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을 향상시킬 수 있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대안 가설의 역할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존 가설에 숨어있는 편견 드러내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 algn="ctr">
              <a:spcBef>
                <a:spcPts val="649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경쟁 가설로서 더욱 엄격한 시험 제공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성 편견이 객관성을 훼손하는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성 편견이 우리가 수용할 과학 이론에 영향을 줄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특히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과학은 남성중심적인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1.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성 편견이 과학에 종사하는 남성과 여성의 비율을 결정할까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2160" y="551628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맑은 고딕"/>
              </a:rPr>
              <a:t>왜 여성의 비율은 올라갈 수록 줄어들까</a:t>
            </a:r>
            <a:r>
              <a:rPr b="0" lang="en-US" sz="2600" spc="-1" strike="noStrike">
                <a:solidFill>
                  <a:srgbClr val="ffc000"/>
                </a:solidFill>
                <a:latin typeface="맑은 고딕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4897440" cy="489744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588000" y="33336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ef9f4"/>
                </a:solidFill>
                <a:latin typeface="Georgia"/>
                <a:ea typeface="맑은 고딕"/>
              </a:rPr>
              <a:t>2002</a:t>
            </a:r>
            <a:r>
              <a:rPr b="0" lang="ko-KR" sz="2200" spc="-1" strike="noStrike">
                <a:solidFill>
                  <a:srgbClr val="eef9f4"/>
                </a:solidFill>
                <a:latin typeface="Georgia"/>
                <a:ea typeface="맑은 고딕"/>
              </a:rPr>
              <a:t>년 덴마크의 </a:t>
            </a:r>
            <a:r>
              <a:rPr b="0" lang="en-US" sz="2200" spc="-1" strike="noStrike">
                <a:solidFill>
                  <a:srgbClr val="eef9f4"/>
                </a:solidFill>
                <a:latin typeface="Georgia"/>
                <a:ea typeface="맑은 고딕"/>
              </a:rPr>
              <a:t>4</a:t>
            </a:r>
            <a:r>
              <a:rPr b="0" lang="ko-KR" sz="2200" spc="-1" strike="noStrike">
                <a:solidFill>
                  <a:srgbClr val="eef9f4"/>
                </a:solidFill>
                <a:latin typeface="Georgia"/>
                <a:ea typeface="맑은 고딕"/>
              </a:rPr>
              <a:t>개 대학 물리학과의 성분포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2.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성 편견이 과학의 탐구 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대상을 결정할까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51577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왜 남성용 피임약은 없을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68" name="Picture 2" descr="http://img2.pressblog.co.kr/letter/2009/090515_2/images/main.jpg"/>
          <p:cNvPicPr/>
          <p:nvPr/>
        </p:nvPicPr>
        <p:blipFill>
          <a:blip r:embed="rId1"/>
          <a:stretch/>
        </p:blipFill>
        <p:spPr>
          <a:xfrm>
            <a:off x="1187280" y="836640"/>
            <a:ext cx="69850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1:08:27Z</dcterms:created>
  <dc:creator>zolaist</dc:creator>
  <dc:description/>
  <dc:language>en-US</dc:language>
  <cp:lastModifiedBy>zolaist</cp:lastModifiedBy>
  <dcterms:modified xsi:type="dcterms:W3CDTF">2011-05-17T03:01:06Z</dcterms:modified>
  <cp:revision>13</cp:revision>
  <dc:subject/>
  <dc:title>과학은 남성적인가?</dc:title>
</cp:coreProperties>
</file>